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436-4E32-4A5B-9598-E5B53FC2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CCF-EF9B-434A-9090-AF17509B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AAD-B58F-49A6-81C6-C9496DF9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5F3-4AE4-4168-B608-2291D281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5B06-BAB1-4B8A-AC13-D495644A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38DC-1A29-4325-A94C-5811706E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9A74-DF15-4663-B7E2-12CD0E55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DE4B-4180-4325-BC7A-1755BEC0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7D87-352D-4F7D-8CA6-5F51BC97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D0C2-5283-4570-B341-DE129A7D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F3C7-9E29-49E6-9316-6BC0069C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642-86ED-494A-B74F-D696FC8A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A41D-D172-4E6D-BC75-EC450B6C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FE7C-C3B1-4B1E-9DE2-49253CBA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B418-2D32-4081-8274-33B22681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D75F-5637-49CE-9610-5AE5CA70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FDF2-97D4-4115-B689-B8570A21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AFE9-00C7-4646-95DF-BF00A4C6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A143-A0A6-4105-B337-57274A80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639AA-AB4E-4338-A082-80432DC0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09D28-85CF-4A29-819F-D3A424D7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5C0B-967C-49E8-9284-2C6961DE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661-FDB8-4A19-83AA-2FE99868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0C63-1028-44AE-A4CF-9F8161C9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38FE-89EF-494C-B1A9-21088CAE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91DF-BC10-4F0B-BD5D-3FFCD7D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B4F8-A4E0-4996-9B3F-762ED15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9353-7037-4C0C-ACDB-90E6CBA1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AD50A-2667-4B1F-A6E1-8807A053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D541-3752-4919-83DF-2B3E0C2B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B26F6-44F2-43D9-8D6E-F1A1109F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42CCC-53AF-48A3-A5FE-C25F941A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BCD5-90F5-4102-A18A-21F5620F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3B1-9B65-4CA1-B1A8-BA41B600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425A7-6827-40FB-94CF-D23421ED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5F4E9-43C2-41FF-9D9D-374E514E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42BD-7559-49E9-8073-6598A117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8C6A9-5DF1-4D50-8919-E43AF4F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9068-03E0-4DBC-A865-D844D271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B81A4-9D28-4115-A869-7F9D1C07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01D3F-B879-4C61-8595-D3DFA798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B00B7-8A51-44AA-9ACC-79CA980F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B89B-5D80-4048-8C1C-A0C1CAB2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724-2EDE-4615-8358-76960E0F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4D5-4EDE-43E3-AE71-1622B545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E25-835F-4260-A7BA-E9AF411B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5B0-C3B9-4199-8930-D151870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10E-D2D3-4B4E-BA5C-499A9CF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79C2-A6F3-4E74-8C50-138A2A665B2D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C60E-546C-4AE7-B24E-BFA8CCD356F0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8822-CC3D-4E7A-A109-CC28FF2F2E67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0506-45BD-4255-97AC-2401290AD448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4617b"/>
                </a:solidFill>
                <a:latin typeface="Calibri"/>
              </a:rPr>
              <a:t>Develop a workplace  learning </a:t>
            </a:r>
            <a:r>
              <a:rPr b="1" lang="en-AU" sz="2800" spc="-1" strike="noStrike">
                <a:solidFill>
                  <a:srgbClr val="04617b"/>
                </a:solidFill>
                <a:latin typeface="Calibri"/>
              </a:rPr>
              <a:t>environment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Lesson 3 –  20 July 201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Placeholder 6" descr="arch_gilliandunlop,0.jpg"/>
          <p:cNvPicPr/>
          <p:nvPr/>
        </p:nvPicPr>
        <p:blipFill>
          <a:blip r:embed="rId1"/>
          <a:srcRect l="0" t="7359" r="0" b="7359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AREAS TO BE EVALUAT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rogram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resent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y traine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y observ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raine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ttitu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C:\Program Files\Common Files\Microsoft Shared\Clipart\cagcat50\bd06784_.wmf"/>
          <p:cNvPicPr/>
          <p:nvPr/>
        </p:nvPicPr>
        <p:blipFill>
          <a:blip r:embed="rId1"/>
          <a:stretch/>
        </p:blipFill>
        <p:spPr>
          <a:xfrm>
            <a:off x="4572000" y="2590920"/>
            <a:ext cx="3200400" cy="29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5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AREAS EVALUATED </a:t>
            </a:r>
            <a:r>
              <a:rPr b="1" lang="en-AU" sz="24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continu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On-the-Job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ehaviou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Fac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cillary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C:\Program Files\Common Files\Microsoft Shared\Clipart\cagcat50\bd06790_.wmf"/>
          <p:cNvPicPr/>
          <p:nvPr/>
        </p:nvPicPr>
        <p:blipFill>
          <a:blip r:embed="rId1"/>
          <a:stretch/>
        </p:blipFill>
        <p:spPr>
          <a:xfrm>
            <a:off x="4572000" y="2819520"/>
            <a:ext cx="3040200" cy="25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mall group activit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 micro training sess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ct one of the following top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rformance manage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muneration manage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stomer servi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ruitment &amp; Sele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lling a produc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pare a 5 minut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ic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aining session based on the above top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some of the principles and techniques outlined in the theoretical component of today’s les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303200" y="3808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ahoma"/>
              </a:rPr>
              <a:t>Training and Develop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002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2600" y="2214360"/>
            <a:ext cx="7805880" cy="45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mployee training has become increasingly important as jobs have become more sophisticated &amp; influenced by technological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raining is a learning experience that seeks a 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relatively permanent change in an individual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that will improve their ability to perfor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Organisations get outputs because people perform tasks to a desired standar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efore employees can perform their tasks properly, they must master the special technology used by the organis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Training is the acquisition of the technology which permits employees to perform to a standar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Constantia"/>
              </a:rPr>
              <a:t>1/3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related to the present jo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mphasises personal growth &amp; improv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osely related to development) Broader implications &amp; applications - does not concentrate upon learning or acquisition of particular ski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90720" y="22860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 organisation’s training needs should cons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he following 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are the orga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ation’s goals and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tasks must be completed to achieve these goa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behaviours are necessary for each job employee to carry out their jo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deficiencies, if any, do employees have in skills, knowledge or attitudes requires to perform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he necessary behavi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ining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 effective training programme should b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ith the following princip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is enhanced when the learner is motiv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requires feedb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inforcement increases the likelihoo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ehaviour is repe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act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 increases learners perform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begins rapidly then platea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arning must be transferable to the jo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ining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ormal training methods can be classified a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n-the-job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. apprentices, rotation, instruction 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ff-the-job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. lectures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onferences, films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imulations et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raining EVALUATION methods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actions of participants or manag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est-retest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re-post performance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incremental-control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4617b"/>
                </a:solidFill>
                <a:latin typeface="Calibri"/>
              </a:rPr>
              <a:t>TRAINING METHODOLOGI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Modified le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Role-pla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uzz Grou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rogrammed Instr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4572000" y="2895480"/>
            <a:ext cx="3746520" cy="212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LEVELS OF EVALU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ehaviou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C:\WINDOWS\Application Data\Microsoft\Media Catalog\Downloaded Clips\cl4f\j0198609.wmf"/>
          <p:cNvPicPr/>
          <p:nvPr/>
        </p:nvPicPr>
        <p:blipFill>
          <a:blip r:embed="rId1"/>
          <a:stretch/>
        </p:blipFill>
        <p:spPr>
          <a:xfrm>
            <a:off x="3886200" y="2286000"/>
            <a:ext cx="4114800" cy="368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1:03:26Z</dcterms:created>
  <dc:creator>John McDonald</dc:creator>
  <dc:description/>
  <dc:language>en-US</dc:language>
  <cp:lastModifiedBy>jmcdonald2</cp:lastModifiedBy>
  <dcterms:modified xsi:type="dcterms:W3CDTF">2010-07-26T22:05:17Z</dcterms:modified>
  <cp:revision>7</cp:revision>
  <dc:subject/>
  <dc:title>Training &amp; Development</dc:title>
</cp:coreProperties>
</file>